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FED-5640-4D96-9953-BEFEE7A9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BA0-1B65-42EA-B941-38F59184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397-C9DB-4C28-BA26-3A212288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1629-65CA-4B02-80A3-000483A5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966D-7F88-47F1-B31E-AA5E1930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98ED-02ED-420B-9EFE-C0D330BE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30C6-852C-48FB-BC3E-F6477AC7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A6FC-A454-400B-BBA6-5A7B091F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E2CC-C386-4F92-9624-F911AB5A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7396-D5B2-455E-9618-6C61364B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74A2-3629-44F8-A7D5-1EA09BD6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96B7-B447-45FB-BEC5-8E49EC95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33AD-963C-4BF3-8386-1DE85890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E0A4-5B0F-4606-9BA3-3A1C2620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A14F-1828-41A2-A47F-CC1E084B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F865-CB38-48E0-AE4B-750BCBC8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3888-B22C-4F27-A252-5DF63E96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65F5-27C7-4E8C-9700-675F2CA6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A37A-84A6-4D6B-A040-A5196CBE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5976-9269-4A8B-8ECE-51B83BE5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D9E-5B72-45D8-8C8D-C2F0C8C4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8FA-12C9-4D7D-B936-0D30BFE5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995-F7A5-4645-86D0-167FAF2A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C38-98E5-4D67-AB41-D9B07612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E9AD-3DE7-4CFB-9F7A-AEE17968FC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9D91-460A-4B56-A516-D6E07187AF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1599840"/>
            <a:ext cx="8839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re Two Heads Better Than One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periment Conducted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chel Vess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ypothesis was correct.  Both the boys and the girls improved as a gro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ys, however, improved much more drastically than the gir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people work better in groups 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msel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is vary between boys and gir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e scores differ between Language and Mathematic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redict that working in groups will improve the sc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redict that it will improve for both boys and gir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redict that girls will be better at Language and boys at Mathemati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bo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gi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individual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group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master sheet (group te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ing sheets for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ing P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c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w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all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all test su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boys individ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boys as a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S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girls individ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girls as a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S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up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urn tests to particip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individual Range:             0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’ average individually:     3.3/12      27.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score as a group:            8/12       66 2/3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individual range:               0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’ average individually:      2.1/12      17.5%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’ score as a group:            3/12        2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4:28:25Z</dcterms:created>
  <dc:creator>USD376</dc:creator>
  <dc:description/>
  <dc:language>en-US</dc:language>
  <cp:lastModifiedBy>USD376</cp:lastModifiedBy>
  <dcterms:modified xsi:type="dcterms:W3CDTF">2011-02-23T15:12:48Z</dcterms:modified>
  <cp:revision>4</cp:revision>
  <dc:subject/>
  <dc:title>Slide 1</dc:title>
</cp:coreProperties>
</file>